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E925-6268-48C3-9E7E-980D918511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etherlands, also known as Holla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NOWN FOR I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MILLS OF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therlands, also known as Hol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FOR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MILLS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aditional d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ditional d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enches of the pold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enches of the p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on the polders in not just for the cow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on the polders in not just for the c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rying cheese wheels the traditional wa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ing cheese wheels the traditional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therlands, Holland: Tradition and Moder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herlands, Holland: Tradition and Mod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ding in th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th Se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ding i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DIVAL CAST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DIVAL CAST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ULIPS ARE THE NETHERLANDS NUMBER ONE FLOW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LIPS ARE THE NETHERLANDS NUMBER ONE 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utch tulips are sent all over the worl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tch tulips are sent all over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itional dress at a festiv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dress at a fest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ADTIONAL WOODEN SHO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DTIONAL WOODEN SH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ES ARE NO LONGER FOR THE FEE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ES ARE NO LONGER FOR THE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3D31-E8B0-4D7A-912C-F0737182B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D60A-C3FB-43D9-8800-C863C37E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B044-357F-460D-952B-6706FA441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3A86-83A4-4098-AF5B-9F01B1DD4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3A4E-5D1E-4358-A082-C994E7E3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CD20-99FE-4CEB-9A22-E7E8984D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3101-EB9E-47E0-A392-EEE0EFCE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C1DE-6523-4752-BE07-B939F67D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EE27-F704-4DD8-827E-24B68135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D49F-98C2-493D-80D7-FAC7CF48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4103-19B9-4EF8-A7B0-98C8AFFB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2A23-E89B-4F91-9651-4E148487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FA93-7F37-44D5-80A8-17D683C8CD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Netherlands, also known as Hollan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9" name="Picture 9" descr="netherlands"/>
          <p:cNvPicPr/>
          <p:nvPr/>
        </p:nvPicPr>
        <p:blipFill>
          <a:blip r:embed="rId1"/>
          <a:stretch/>
        </p:blipFill>
        <p:spPr>
          <a:xfrm>
            <a:off x="2743200" y="1905120"/>
            <a:ext cx="2949480" cy="45813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0"/>
          <p:cNvSpPr/>
          <p:nvPr/>
        </p:nvSpPr>
        <p:spPr>
          <a:xfrm>
            <a:off x="5791320" y="2046240"/>
            <a:ext cx="495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WN FOR 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MILLS 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A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aditional dan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Picture 5" descr="VoorkantboekTerschellingDanst"/>
          <p:cNvPicPr/>
          <p:nvPr/>
        </p:nvPicPr>
        <p:blipFill>
          <a:blip r:embed="rId1"/>
          <a:stretch/>
        </p:blipFill>
        <p:spPr>
          <a:xfrm>
            <a:off x="2340000" y="2057400"/>
            <a:ext cx="3251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polders"/>
          <p:cNvPicPr/>
          <p:nvPr/>
        </p:nvPicPr>
        <p:blipFill>
          <a:blip r:embed="rId1"/>
          <a:stretch/>
        </p:blipFill>
        <p:spPr>
          <a:xfrm>
            <a:off x="762120" y="1171440"/>
            <a:ext cx="7619760" cy="45151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593640" y="1332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enches of the pold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denminiland2"/>
          <p:cNvPicPr/>
          <p:nvPr/>
        </p:nvPicPr>
        <p:blipFill>
          <a:blip r:embed="rId1"/>
          <a:stretch/>
        </p:blipFill>
        <p:spPr>
          <a:xfrm>
            <a:off x="1981080" y="1828800"/>
            <a:ext cx="5086440" cy="3051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609480" y="590400"/>
            <a:ext cx="861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ving on the polders in not just for the cow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kaasdragers-150"/>
          <p:cNvPicPr/>
          <p:nvPr/>
        </p:nvPicPr>
        <p:blipFill>
          <a:blip r:embed="rId1"/>
          <a:stretch/>
        </p:blipFill>
        <p:spPr>
          <a:xfrm>
            <a:off x="1905120" y="60948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1608840" y="4857840"/>
            <a:ext cx="732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rying cheese wheels the traditional w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860879-Travel_Picture-Netherlands"/>
          <p:cNvPicPr/>
          <p:nvPr/>
        </p:nvPicPr>
        <p:blipFill>
          <a:blip r:embed="rId1"/>
          <a:stretch/>
        </p:blipFill>
        <p:spPr>
          <a:xfrm>
            <a:off x="1143000" y="1347840"/>
            <a:ext cx="6858000" cy="55101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-495360" y="133200"/>
            <a:ext cx="880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therlands, Holland: Tradition and Mode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netherlands"/>
          <p:cNvPicPr/>
          <p:nvPr/>
        </p:nvPicPr>
        <p:blipFill>
          <a:blip r:embed="rId1"/>
          <a:stretch/>
        </p:blipFill>
        <p:spPr>
          <a:xfrm>
            <a:off x="0" y="0"/>
            <a:ext cx="4267080" cy="3209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317956-Travel_Picture-Netherlands"/>
          <p:cNvPicPr/>
          <p:nvPr/>
        </p:nvPicPr>
        <p:blipFill>
          <a:blip r:embed="rId2"/>
          <a:stretch/>
        </p:blipFill>
        <p:spPr>
          <a:xfrm>
            <a:off x="4114800" y="3436920"/>
            <a:ext cx="5029200" cy="34210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8"/>
          <p:cNvSpPr/>
          <p:nvPr/>
        </p:nvSpPr>
        <p:spPr>
          <a:xfrm>
            <a:off x="690120" y="4933800"/>
            <a:ext cx="259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ding in th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rth Se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5" descr="Muiden%2520castle,%2520Netherlands"/>
          <p:cNvPicPr/>
          <p:nvPr/>
        </p:nvPicPr>
        <p:blipFill>
          <a:blip r:embed="rId1"/>
          <a:stretch/>
        </p:blipFill>
        <p:spPr>
          <a:xfrm>
            <a:off x="914400" y="1079640"/>
            <a:ext cx="5334120" cy="37256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3417840" y="4941720"/>
            <a:ext cx="34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VAL CAS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5" descr="netherlands_keukenhofpark"/>
          <p:cNvPicPr/>
          <p:nvPr/>
        </p:nvPicPr>
        <p:blipFill>
          <a:blip r:embed="rId1"/>
          <a:stretch/>
        </p:blipFill>
        <p:spPr>
          <a:xfrm>
            <a:off x="838080" y="628560"/>
            <a:ext cx="6591600" cy="49435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457200" y="5794200"/>
            <a:ext cx="96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LIPS ARE THE NETHERLANDS NUMBER ONE FLOW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utch tulips are sent all over the worl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5" descr="plan_netherlands_bulb_field_near_haarlem"/>
          <p:cNvPicPr/>
          <p:nvPr/>
        </p:nvPicPr>
        <p:blipFill>
          <a:blip r:embed="rId1"/>
          <a:stretch/>
        </p:blipFill>
        <p:spPr>
          <a:xfrm>
            <a:off x="838080" y="2057400"/>
            <a:ext cx="4891320" cy="3236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Fusarium_tulip_bulb6978s"/>
          <p:cNvPicPr/>
          <p:nvPr/>
        </p:nvPicPr>
        <p:blipFill>
          <a:blip r:embed="rId2"/>
          <a:stretch/>
        </p:blipFill>
        <p:spPr>
          <a:xfrm>
            <a:off x="6019920" y="137160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istockphoto_415827_tulip"/>
          <p:cNvPicPr/>
          <p:nvPr/>
        </p:nvPicPr>
        <p:blipFill>
          <a:blip r:embed="rId3"/>
          <a:stretch/>
        </p:blipFill>
        <p:spPr>
          <a:xfrm>
            <a:off x="6095880" y="3276720"/>
            <a:ext cx="24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5" descr="Netherlands_Amsterdam_Dec01_04_Canal_in_Amsterdam"/>
          <p:cNvPicPr/>
          <p:nvPr/>
        </p:nvPicPr>
        <p:blipFill>
          <a:blip r:embed="rId1"/>
          <a:stretch/>
        </p:blipFill>
        <p:spPr>
          <a:xfrm>
            <a:off x="1052640" y="790560"/>
            <a:ext cx="703872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5" descr="traditional_dress"/>
          <p:cNvPicPr/>
          <p:nvPr/>
        </p:nvPicPr>
        <p:blipFill>
          <a:blip r:embed="rId1"/>
          <a:stretch/>
        </p:blipFill>
        <p:spPr>
          <a:xfrm>
            <a:off x="304920" y="262080"/>
            <a:ext cx="8381880" cy="55195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898560" y="5772240"/>
            <a:ext cx="702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ditional dress at a festiv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5" descr="283713-Travel_Picture-Netherlands"/>
          <p:cNvPicPr/>
          <p:nvPr/>
        </p:nvPicPr>
        <p:blipFill>
          <a:blip r:embed="rId1"/>
          <a:stretch/>
        </p:blipFill>
        <p:spPr>
          <a:xfrm>
            <a:off x="2895480" y="685800"/>
            <a:ext cx="422748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" name="Picture 5" descr="fietser2"/>
          <p:cNvPicPr/>
          <p:nvPr/>
        </p:nvPicPr>
        <p:blipFill>
          <a:blip r:embed="rId1"/>
          <a:stretch/>
        </p:blipFill>
        <p:spPr>
          <a:xfrm>
            <a:off x="609480" y="2057400"/>
            <a:ext cx="3014640" cy="23335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3636360" y="2971800"/>
            <a:ext cx="52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DTIONAL WOODEN SHO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HOES ARE NO LONGER FOR THE FEE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" name="Picture 5" descr="788828-Travel_Picture-Netherlands"/>
          <p:cNvPicPr/>
          <p:nvPr/>
        </p:nvPicPr>
        <p:blipFill>
          <a:blip r:embed="rId1"/>
          <a:stretch/>
        </p:blipFill>
        <p:spPr>
          <a:xfrm>
            <a:off x="2438280" y="1943280"/>
            <a:ext cx="393228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1T20:19:46Z</dcterms:created>
  <dc:creator> Karen</dc:creator>
  <dc:description/>
  <dc:language>en-US</dc:language>
  <cp:lastModifiedBy>RomaK</cp:lastModifiedBy>
  <dcterms:modified xsi:type="dcterms:W3CDTF">2015-09-04T09:45:42Z</dcterms:modified>
  <cp:revision>5</cp:revision>
  <dc:subject/>
  <dc:title>The Netherlands</dc:title>
</cp:coreProperties>
</file>